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0E60-EB35-415C-B630-315540DB2DC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9D67-12C7-48FD-ADA7-CABE9B4B4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33B8-A9D0-4B3F-AEB8-CA823E477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6E71-35D7-4649-A5EB-D075451E1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C3EB-E9CE-443E-B4AE-131CC63B7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3B1C-CAF3-4DD7-8A49-6FF90FB25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204E-56D6-4842-A815-D1DE79ED7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1F8E-B20C-4D52-B482-8A7951958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AE5E-D01C-4787-A90A-D106DB95E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069F-F110-4B87-8D3D-94E7DC6B5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F6CB2-FD31-4E2E-9F49-D26E758A3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C9D61-A16C-41A4-B500-D03EC3FAE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CAFA7-BBA3-4782-BB65-A19C5A9B6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B13BC-BFC5-4CED-B69C-AAF74606E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E25A9-FAB3-410A-9C29-0A8355521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3919DE-DABB-4CD5-8C5F-73B8495CD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F37F9-54DC-4AE9-8BA2-9C4DB4E5E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1BEA2-B79D-4873-BF8A-326A703D1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53D55-A4F1-4323-AFC7-1D724C922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98991-8E71-4CDE-BE9F-48DA3D200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F9E8E-E95D-4118-89DC-97210C23B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18BA3-29A1-4549-AA0A-6DEAED5E2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C055A-7A09-4042-8055-4AA6AF0ED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19E44-4546-4BD5-8636-9AC8D6283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4ED82-B422-4EC9-8212-C66D515D0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9F5AA-DDEC-467F-983A-415575089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42CB6-7393-4E49-A8EE-856C95CFC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CF57B-7E33-4D02-ABCA-07EB01E32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3CA96-5F90-44EC-9919-42A962106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6CF1F-B7B1-44C7-9D9F-7341DCA2D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79E7C-18C1-4D42-9EDB-1AB442ED4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C342D-3577-4D66-B779-7C9522950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324B7-A91C-4A34-813D-58D4D1AFE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C7FA9-91C8-460F-A644-4021F4C10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834F-8AE9-4CCD-BA77-D360AF557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89000"/>
          </a:bodyPr>
          <a:p>
            <a:pPr marL="305280" indent="-30528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60960" indent="-2541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1700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241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309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309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309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25455"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25455"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25455"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30D6-F2FB-4AFA-9F80-CE686F54EC39}" type="slidenum">
              <a:rPr b="0" lang="en-US" sz="1400" spc="-1" strike="noStrike">
                <a:solidFill>
                  <a:srgbClr val="000000"/>
                </a:solidFill>
                <a:latin typeface="Century Gothic"/>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89000"/>
          </a:bodyPr>
          <a:p>
            <a:pPr marL="305280" indent="-30528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60960" indent="-2541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1700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241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309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309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309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3" name="PlaceHolder 3"/>
          <p:cNvSpPr>
            <a:spLocks noGrp="1"/>
          </p:cNvSpPr>
          <p:nvPr>
            <p:ph type="dt" idx="4"/>
          </p:nvPr>
        </p:nvSpPr>
        <p:spPr>
          <a:xfrm>
            <a:off x="685800" y="6248520"/>
            <a:ext cx="1905120" cy="457200"/>
          </a:xfrm>
          <a:prstGeom prst="rect">
            <a:avLst/>
          </a:prstGeom>
          <a:noFill/>
          <a:ln w="0">
            <a:noFill/>
          </a:ln>
          <a:effectLst>
            <a:outerShdw dist="25455"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a:effectLst>
            <a:outerShdw dist="25455"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a:effectLst>
            <a:outerShdw dist="25455"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53E1-3A91-4D29-9811-2B226F794922}" type="slidenum">
              <a:rPr b="0" lang="en-US" sz="1400" spc="-1" strike="noStrike">
                <a:solidFill>
                  <a:srgbClr val="000000"/>
                </a:solidFill>
                <a:latin typeface="Century Gothic"/>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6.xml"/><Relationship Id="rId10" Type="http://schemas.openxmlformats.org/officeDocument/2006/relationships/slide" Target="slide6.xml"/><Relationship Id="rId11" Type="http://schemas.openxmlformats.org/officeDocument/2006/relationships/slide" Target="slide7.xml"/><Relationship Id="rId12" Type="http://schemas.openxmlformats.org/officeDocument/2006/relationships/slide" Target="slide7.xml"/><Relationship Id="rId13" Type="http://schemas.openxmlformats.org/officeDocument/2006/relationships/slide" Target="slide8.xml"/><Relationship Id="rId14" Type="http://schemas.openxmlformats.org/officeDocument/2006/relationships/slide" Target="slide8.xml"/><Relationship Id="rId15" Type="http://schemas.openxmlformats.org/officeDocument/2006/relationships/slide" Target="slide9.xml"/><Relationship Id="rId16" Type="http://schemas.openxmlformats.org/officeDocument/2006/relationships/slide" Target="slide9.xml"/><Relationship Id="rId17" Type="http://schemas.openxmlformats.org/officeDocument/2006/relationships/slide" Target="slide10.xml"/><Relationship Id="rId18" Type="http://schemas.openxmlformats.org/officeDocument/2006/relationships/slide" Target="slide10.xml"/><Relationship Id="rId19" Type="http://schemas.openxmlformats.org/officeDocument/2006/relationships/slideLayout" Target="../slideLayouts/slideLayout1.xml"/><Relationship Id="rId2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4"/>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Rectangle 5"/>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PlaceHolder 1"/>
          <p:cNvSpPr>
            <a:spLocks noGrp="1"/>
          </p:cNvSpPr>
          <p:nvPr>
            <p:ph type="title"/>
          </p:nvPr>
        </p:nvSpPr>
        <p:spPr>
          <a:xfrm>
            <a:off x="685800" y="2285640"/>
            <a:ext cx="77724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ffffff"/>
            </a:outerShdw>
          </a:effectLst>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Date Placeholder 3"/>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Footer Placeholder 4"/>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olerable Acts</a:t>
            </a:r>
            <a:endParaRPr b="0" lang="en-US" sz="4400" spc="-1" strike="noStrike">
              <a:solidFill>
                <a:srgbClr val="000000"/>
              </a:solidFill>
              <a:latin typeface="Century Gothic"/>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ffffff"/>
            </a:outerShdw>
          </a:effectLst>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2000" spc="-1" strike="noStrike">
                <a:solidFill>
                  <a:srgbClr val="000000"/>
                </a:solidFill>
                <a:latin typeface="Century Gothic"/>
              </a:rPr>
              <a:t>The Intolerable Acts - laws that enacted by Parliament in 1774 severely restricting the rights of Massachusetts colonists.</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ause of it was that the parliament passed harsh laws to punish the colonists . </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effect of the Intolerable Acts was that the merchants lost huge sums of there money an spoiled and destroyed goods that was shipped to the colonies .</a:t>
            </a:r>
            <a:endParaRPr b="0" lang="en-US" sz="2000" spc="-1" strike="noStrike">
              <a:solidFill>
                <a:srgbClr val="000000"/>
              </a:solidFill>
              <a:latin typeface="Century Gothic"/>
            </a:endParaRPr>
          </a:p>
        </p:txBody>
      </p:sp>
      <p:sp>
        <p:nvSpPr>
          <p:cNvPr id="161" name="AutoShape 4"/>
          <p:cNvSpPr/>
          <p:nvPr/>
        </p:nvSpPr>
        <p:spPr>
          <a:xfrm>
            <a:off x="7010280" y="6858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16694" y="3837"/>
                </a:moveTo>
                <a:lnTo>
                  <a:pt x="19270" y="6448"/>
                </a:lnTo>
                <a:lnTo>
                  <a:pt x="19270" y="4707"/>
                </a:lnTo>
                <a:lnTo>
                  <a:pt x="21046" y="4707"/>
                </a:lnTo>
                <a:lnTo>
                  <a:pt x="21046" y="8224"/>
                </a:lnTo>
                <a:lnTo>
                  <a:pt x="23657" y="10800"/>
                </a:lnTo>
                <a:lnTo>
                  <a:pt x="22003" y="10800"/>
                </a:lnTo>
                <a:lnTo>
                  <a:pt x="22003" y="17989"/>
                </a:lnTo>
                <a:lnTo>
                  <a:pt x="11385" y="17989"/>
                </a:lnTo>
                <a:lnTo>
                  <a:pt x="11385" y="10800"/>
                </a:lnTo>
                <a:lnTo>
                  <a:pt x="9731" y="10800"/>
                </a:lnTo>
                <a:close/>
              </a:path>
              <a:path fill="darkenLess" w="33388" h="21600">
                <a:moveTo>
                  <a:pt x="19270" y="6448"/>
                </a:moveTo>
                <a:lnTo>
                  <a:pt x="19270" y="4707"/>
                </a:lnTo>
                <a:lnTo>
                  <a:pt x="21046" y="4707"/>
                </a:lnTo>
                <a:lnTo>
                  <a:pt x="21046" y="8224"/>
                </a:lnTo>
                <a:close/>
              </a:path>
              <a:path fill="darkenLess" w="33388" h="21600">
                <a:moveTo>
                  <a:pt x="15771" y="14299"/>
                </a:moveTo>
                <a:lnTo>
                  <a:pt x="17616" y="14299"/>
                </a:lnTo>
                <a:lnTo>
                  <a:pt x="17616" y="17989"/>
                </a:lnTo>
                <a:lnTo>
                  <a:pt x="22003" y="17989"/>
                </a:lnTo>
                <a:lnTo>
                  <a:pt x="22003" y="10800"/>
                </a:lnTo>
                <a:lnTo>
                  <a:pt x="11385" y="10800"/>
                </a:lnTo>
                <a:lnTo>
                  <a:pt x="11385" y="17989"/>
                </a:lnTo>
                <a:lnTo>
                  <a:pt x="15771"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Date Placeholder 2"/>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Footer Placeholder 3"/>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imeline  </a:t>
            </a:r>
            <a:endParaRPr b="0" lang="en-US" sz="4400" spc="-1" strike="noStrike">
              <a:solidFill>
                <a:srgbClr val="000000"/>
              </a:solidFill>
              <a:latin typeface="Century Gothic"/>
            </a:endParaRPr>
          </a:p>
        </p:txBody>
      </p:sp>
      <p:sp>
        <p:nvSpPr>
          <p:cNvPr id="96" name="Line 6"/>
          <p:cNvSpPr/>
          <p:nvPr/>
        </p:nvSpPr>
        <p:spPr>
          <a:xfrm>
            <a:off x="533520" y="3809880"/>
            <a:ext cx="8153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97" name="Line 7"/>
          <p:cNvSpPr/>
          <p:nvPr/>
        </p:nvSpPr>
        <p:spPr>
          <a:xfrm>
            <a:off x="762120" y="39625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98" name="Rectangle 9"/>
          <p:cNvSpPr/>
          <p:nvPr/>
        </p:nvSpPr>
        <p:spPr>
          <a:xfrm>
            <a:off x="1096920" y="4937040"/>
            <a:ext cx="2484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10"/>
          <p:cNvSpPr/>
          <p:nvPr/>
        </p:nvSpPr>
        <p:spPr>
          <a:xfrm>
            <a:off x="-720" y="49528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2" action="ppaction://hlinksldjump"/>
              </a:rPr>
              <a:t>1754-177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3" action="ppaction://hlinksldjump"/>
              </a:rPr>
              <a:t>French an Indian War </a:t>
            </a:r>
            <a:endParaRPr b="0" lang="en-US" sz="1200" spc="-1" strike="noStrike">
              <a:solidFill>
                <a:srgbClr val="000000"/>
              </a:solidFill>
              <a:latin typeface="Arial"/>
            </a:endParaRPr>
          </a:p>
        </p:txBody>
      </p:sp>
      <p:sp>
        <p:nvSpPr>
          <p:cNvPr id="100" name="Line 12"/>
          <p:cNvSpPr/>
          <p:nvPr/>
        </p:nvSpPr>
        <p:spPr>
          <a:xfrm flipV="1">
            <a:off x="1752480" y="3276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1" name="Rectangle 14"/>
          <p:cNvSpPr/>
          <p:nvPr/>
        </p:nvSpPr>
        <p:spPr>
          <a:xfrm>
            <a:off x="1066680" y="2666880"/>
            <a:ext cx="1243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4" action="ppaction://hlinksldjump"/>
              </a:rPr>
              <a:t>Proclamatio</a:t>
            </a:r>
            <a:r>
              <a:rPr b="0" lang="en-US" sz="1200" spc="-1" strike="noStrike">
                <a:solidFill>
                  <a:srgbClr val="000000"/>
                </a:solidFill>
                <a:latin typeface="Arial"/>
              </a:rPr>
              <a:t>n </a:t>
            </a:r>
            <a:r>
              <a:rPr b="0" lang="en-US" sz="1200" spc="-1" strike="noStrike" u="sng">
                <a:solidFill>
                  <a:srgbClr val="0081cc"/>
                </a:solidFill>
                <a:uFillTx/>
                <a:latin typeface="Arial"/>
                <a:hlinkClick r:id="rId5" action="ppaction://hlinksldjump"/>
              </a:rPr>
              <a:t>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6" action="ppaction://hlinksldjump"/>
              </a:rPr>
              <a:t>       1763</a:t>
            </a:r>
            <a:endParaRPr b="0" lang="en-US" sz="1200" spc="-1" strike="noStrike">
              <a:solidFill>
                <a:srgbClr val="000000"/>
              </a:solidFill>
              <a:latin typeface="Arial"/>
            </a:endParaRPr>
          </a:p>
        </p:txBody>
      </p:sp>
      <p:sp>
        <p:nvSpPr>
          <p:cNvPr id="102" name="Line 15"/>
          <p:cNvSpPr/>
          <p:nvPr/>
        </p:nvSpPr>
        <p:spPr>
          <a:xfrm>
            <a:off x="2590920" y="40384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3" name="Rectangle 16"/>
          <p:cNvSpPr/>
          <p:nvPr/>
        </p:nvSpPr>
        <p:spPr>
          <a:xfrm>
            <a:off x="2362320" y="487692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7" action="ppaction://hlinksldjump"/>
              </a:rPr>
              <a:t>176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8" action="ppaction://hlinksldjump"/>
              </a:rPr>
              <a:t>Stamp Act </a:t>
            </a:r>
            <a:endParaRPr b="0" lang="en-US" sz="1200" spc="-1" strike="noStrike">
              <a:solidFill>
                <a:srgbClr val="000000"/>
              </a:solidFill>
              <a:latin typeface="Arial"/>
            </a:endParaRPr>
          </a:p>
        </p:txBody>
      </p:sp>
      <p:sp>
        <p:nvSpPr>
          <p:cNvPr id="104" name="Line 17"/>
          <p:cNvSpPr/>
          <p:nvPr/>
        </p:nvSpPr>
        <p:spPr>
          <a:xfrm flipV="1">
            <a:off x="3657600" y="3200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5" name="Rectangle 18"/>
          <p:cNvSpPr/>
          <p:nvPr/>
        </p:nvSpPr>
        <p:spPr>
          <a:xfrm flipH="1">
            <a:off x="3200400" y="243828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9" action="ppaction://hlinksldjump"/>
              </a:rPr>
              <a:t>  1776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0" action="ppaction://hlinksldjump"/>
              </a:rPr>
              <a:t>Townshed Acts </a:t>
            </a:r>
            <a:endParaRPr b="0" lang="en-US" sz="1200" spc="-1" strike="noStrike">
              <a:solidFill>
                <a:srgbClr val="000000"/>
              </a:solidFill>
              <a:latin typeface="Arial"/>
            </a:endParaRPr>
          </a:p>
        </p:txBody>
      </p:sp>
      <p:sp>
        <p:nvSpPr>
          <p:cNvPr id="106" name="Line 19"/>
          <p:cNvSpPr/>
          <p:nvPr/>
        </p:nvSpPr>
        <p:spPr>
          <a:xfrm>
            <a:off x="4724280" y="41148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7" name="Rectangle 20"/>
          <p:cNvSpPr/>
          <p:nvPr/>
        </p:nvSpPr>
        <p:spPr>
          <a:xfrm>
            <a:off x="4448160" y="4863960"/>
            <a:ext cx="1285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81cc"/>
                </a:solidFill>
                <a:uFillTx/>
                <a:latin typeface="Arial"/>
                <a:hlinkClick r:id="rId11" action="ppaction://hlinksldjump"/>
              </a:rPr>
              <a:t>177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2" action="ppaction://hlinksldjump"/>
              </a:rPr>
              <a:t>Boston Masacre</a:t>
            </a:r>
            <a:endParaRPr b="0" lang="en-US" sz="1200" spc="-1" strike="noStrike">
              <a:solidFill>
                <a:srgbClr val="000000"/>
              </a:solidFill>
              <a:latin typeface="Arial"/>
            </a:endParaRPr>
          </a:p>
        </p:txBody>
      </p:sp>
      <p:sp>
        <p:nvSpPr>
          <p:cNvPr id="108" name="Line 24"/>
          <p:cNvSpPr/>
          <p:nvPr/>
        </p:nvSpPr>
        <p:spPr>
          <a:xfrm flipV="1">
            <a:off x="5715000" y="3124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9" name="Rectangle 25"/>
          <p:cNvSpPr/>
          <p:nvPr/>
        </p:nvSpPr>
        <p:spPr>
          <a:xfrm>
            <a:off x="5181480" y="2438280"/>
            <a:ext cx="1067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3" action="ppaction://hlinksldjump"/>
              </a:rPr>
              <a:t>177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4" action="ppaction://hlinksldjump"/>
              </a:rPr>
              <a:t>Tea Act</a:t>
            </a:r>
            <a:endParaRPr b="0" lang="en-US" sz="1200" spc="-1" strike="noStrike">
              <a:solidFill>
                <a:srgbClr val="000000"/>
              </a:solidFill>
              <a:latin typeface="Arial"/>
            </a:endParaRPr>
          </a:p>
        </p:txBody>
      </p:sp>
      <p:sp>
        <p:nvSpPr>
          <p:cNvPr id="110" name="Line 26"/>
          <p:cNvSpPr/>
          <p:nvPr/>
        </p:nvSpPr>
        <p:spPr>
          <a:xfrm>
            <a:off x="5715000" y="3962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11" name="Rectangle 27"/>
          <p:cNvSpPr/>
          <p:nvPr/>
        </p:nvSpPr>
        <p:spPr>
          <a:xfrm>
            <a:off x="5713560" y="4876920"/>
            <a:ext cx="1406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5" action="ppaction://hlinksldjump"/>
              </a:rPr>
              <a:t> 177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6" action="ppaction://hlinksldjump"/>
              </a:rPr>
              <a:t>Boston Tea  Party</a:t>
            </a:r>
            <a:endParaRPr b="0" lang="en-US" sz="1200" spc="-1" strike="noStrike">
              <a:solidFill>
                <a:srgbClr val="000000"/>
              </a:solidFill>
              <a:latin typeface="Arial"/>
            </a:endParaRPr>
          </a:p>
        </p:txBody>
      </p:sp>
      <p:sp>
        <p:nvSpPr>
          <p:cNvPr id="112" name="Line 30"/>
          <p:cNvSpPr/>
          <p:nvPr/>
        </p:nvSpPr>
        <p:spPr>
          <a:xfrm flipV="1">
            <a:off x="7162920" y="32000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13" name="Rectangle 31"/>
          <p:cNvSpPr/>
          <p:nvPr/>
        </p:nvSpPr>
        <p:spPr>
          <a:xfrm>
            <a:off x="6705720" y="2514600"/>
            <a:ext cx="1234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7" action="ppaction://hlinksldjump"/>
              </a:rPr>
              <a:t>Intolerable 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8" action="ppaction://hlinksldjump"/>
              </a:rPr>
              <a:t>       1774</a:t>
            </a:r>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Date Placeholder 2"/>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Footer Placeholder 3"/>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rench and Indian War </a:t>
            </a:r>
            <a:endParaRPr b="0" lang="en-US" sz="4400" spc="-1" strike="noStrike">
              <a:solidFill>
                <a:srgbClr val="000000"/>
              </a:solidFill>
              <a:latin typeface="Century Gothic"/>
            </a:endParaRPr>
          </a:p>
        </p:txBody>
      </p:sp>
      <p:sp>
        <p:nvSpPr>
          <p:cNvPr id="117" name="Rectangle 3"/>
          <p:cNvSpPr/>
          <p:nvPr/>
        </p:nvSpPr>
        <p:spPr>
          <a:xfrm>
            <a:off x="228600" y="1905120"/>
            <a:ext cx="746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and Indian</a:t>
            </a:r>
            <a:r>
              <a:rPr b="0" lang="en-US" sz="1800" spc="-1" strike="noStrike">
                <a:solidFill>
                  <a:srgbClr val="000000"/>
                </a:solidFill>
                <a:latin typeface="Arial"/>
              </a:rPr>
              <a:t> </a:t>
            </a:r>
            <a:r>
              <a:rPr b="0" lang="en-US" sz="2400" spc="-1" strike="noStrike">
                <a:solidFill>
                  <a:srgbClr val="000000"/>
                </a:solidFill>
                <a:latin typeface="Arial"/>
              </a:rPr>
              <a:t>war was in 1754-1765,it was the conflict between</a:t>
            </a:r>
            <a:r>
              <a:rPr b="0" lang="en-US" sz="1800" spc="-1" strike="noStrike">
                <a:solidFill>
                  <a:srgbClr val="000000"/>
                </a:solidFill>
                <a:latin typeface="Arial"/>
              </a:rPr>
              <a:t> </a:t>
            </a:r>
            <a:r>
              <a:rPr b="0" lang="en-US" sz="2400" spc="-1" strike="noStrike">
                <a:solidFill>
                  <a:srgbClr val="000000"/>
                </a:solidFill>
                <a:latin typeface="Arial"/>
              </a:rPr>
              <a:t>France an British in North America. </a:t>
            </a:r>
            <a:endParaRPr b="0" lang="en-US" sz="2400" spc="-1" strike="noStrike">
              <a:solidFill>
                <a:srgbClr val="000000"/>
              </a:solidFill>
              <a:latin typeface="Arial"/>
            </a:endParaRPr>
          </a:p>
        </p:txBody>
      </p:sp>
      <p:sp>
        <p:nvSpPr>
          <p:cNvPr id="118" name="Rectangle 4"/>
          <p:cNvSpPr/>
          <p:nvPr/>
        </p:nvSpPr>
        <p:spPr>
          <a:xfrm>
            <a:off x="1219320" y="2819520"/>
            <a:ext cx="6292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 of the French an Indian war they were trying to Fight over the Appalachian terri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Rectangle 5"/>
          <p:cNvSpPr/>
          <p:nvPr/>
        </p:nvSpPr>
        <p:spPr>
          <a:xfrm>
            <a:off x="4191120" y="4267080"/>
            <a:ext cx="495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the French an Indian War was the war made all the colonis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d learned to unite against a common foe, Before the war the war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teen colonies had found almost no common ground an they coexis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etal distrust.</a:t>
            </a:r>
            <a:endParaRPr b="0" lang="en-US" sz="2000" spc="-1" strike="noStrike">
              <a:solidFill>
                <a:srgbClr val="000000"/>
              </a:solidFill>
              <a:latin typeface="Arial"/>
            </a:endParaRPr>
          </a:p>
        </p:txBody>
      </p:sp>
      <p:sp>
        <p:nvSpPr>
          <p:cNvPr id="120" name="AutoShape 6"/>
          <p:cNvSpPr/>
          <p:nvPr/>
        </p:nvSpPr>
        <p:spPr>
          <a:xfrm>
            <a:off x="7848720" y="1219320"/>
            <a:ext cx="990360" cy="761760"/>
          </a:xfrm>
          <a:custGeom>
            <a:avLst/>
            <a:gdLst>
              <a:gd name="textAreaLeft" fmla="*/ 49320 w 990360"/>
              <a:gd name="textAreaRight" fmla="*/ 941040 w 990360"/>
              <a:gd name="textAreaTop" fmla="*/ 49320 h 761760"/>
              <a:gd name="textAreaBottom" fmla="*/ 712440 h 761760"/>
            </a:gdLst>
            <a:ahLst/>
            <a:rect l="textAreaLeft" t="textAreaTop" r="textAreaRight" b="textAreaBottom"/>
            <a:pathLst>
              <a:path w="28079" h="21600">
                <a:moveTo>
                  <a:pt x="0" y="0"/>
                </a:moveTo>
                <a:lnTo>
                  <a:pt x="28079" y="0"/>
                </a:lnTo>
                <a:lnTo>
                  <a:pt x="28079" y="21600"/>
                </a:lnTo>
                <a:lnTo>
                  <a:pt x="0" y="21600"/>
                </a:lnTo>
                <a:close/>
              </a:path>
              <a:path fill="lightenLess" w="28079" h="21600">
                <a:moveTo>
                  <a:pt x="0" y="0"/>
                </a:moveTo>
                <a:lnTo>
                  <a:pt x="28079" y="0"/>
                </a:lnTo>
                <a:lnTo>
                  <a:pt x="26679" y="1400"/>
                </a:lnTo>
                <a:lnTo>
                  <a:pt x="1400" y="1400"/>
                </a:lnTo>
                <a:close/>
              </a:path>
              <a:path fill="darken" w="28079" h="21600">
                <a:moveTo>
                  <a:pt x="28079" y="0"/>
                </a:moveTo>
                <a:lnTo>
                  <a:pt x="28079" y="21600"/>
                </a:lnTo>
                <a:lnTo>
                  <a:pt x="26679" y="20200"/>
                </a:lnTo>
                <a:lnTo>
                  <a:pt x="26679" y="1400"/>
                </a:lnTo>
                <a:close/>
              </a:path>
              <a:path fill="darkenLess" w="28079" h="21600">
                <a:moveTo>
                  <a:pt x="28079" y="21600"/>
                </a:moveTo>
                <a:lnTo>
                  <a:pt x="0" y="21600"/>
                </a:lnTo>
                <a:lnTo>
                  <a:pt x="1400" y="20200"/>
                </a:lnTo>
                <a:lnTo>
                  <a:pt x="26679" y="20200"/>
                </a:lnTo>
                <a:close/>
              </a:path>
              <a:path fill="lighten" w="28079" h="21600">
                <a:moveTo>
                  <a:pt x="0" y="21600"/>
                </a:moveTo>
                <a:lnTo>
                  <a:pt x="0" y="0"/>
                </a:lnTo>
                <a:lnTo>
                  <a:pt x="1400" y="1400"/>
                </a:lnTo>
                <a:lnTo>
                  <a:pt x="1400" y="20200"/>
                </a:lnTo>
                <a:close/>
              </a:path>
              <a:path fill="darken" w="28079" h="21600">
                <a:moveTo>
                  <a:pt x="14039" y="3837"/>
                </a:moveTo>
                <a:lnTo>
                  <a:pt x="16616" y="6448"/>
                </a:lnTo>
                <a:lnTo>
                  <a:pt x="16616" y="4707"/>
                </a:lnTo>
                <a:lnTo>
                  <a:pt x="18391" y="4707"/>
                </a:lnTo>
                <a:lnTo>
                  <a:pt x="18391" y="8224"/>
                </a:lnTo>
                <a:lnTo>
                  <a:pt x="21002" y="10800"/>
                </a:lnTo>
                <a:lnTo>
                  <a:pt x="19349" y="10800"/>
                </a:lnTo>
                <a:lnTo>
                  <a:pt x="19349" y="17989"/>
                </a:lnTo>
                <a:lnTo>
                  <a:pt x="8730" y="17989"/>
                </a:lnTo>
                <a:lnTo>
                  <a:pt x="8730" y="10800"/>
                </a:lnTo>
                <a:lnTo>
                  <a:pt x="7077" y="10800"/>
                </a:lnTo>
                <a:close/>
              </a:path>
              <a:path fill="darkenLess" w="28079" h="21600">
                <a:moveTo>
                  <a:pt x="16616" y="6448"/>
                </a:moveTo>
                <a:lnTo>
                  <a:pt x="16616" y="4707"/>
                </a:lnTo>
                <a:lnTo>
                  <a:pt x="18391" y="4707"/>
                </a:lnTo>
                <a:lnTo>
                  <a:pt x="18391" y="8224"/>
                </a:lnTo>
                <a:close/>
              </a:path>
              <a:path fill="darkenLess" w="28079" h="21600">
                <a:moveTo>
                  <a:pt x="13117" y="14299"/>
                </a:moveTo>
                <a:lnTo>
                  <a:pt x="14962" y="14299"/>
                </a:lnTo>
                <a:lnTo>
                  <a:pt x="14962" y="17989"/>
                </a:lnTo>
                <a:lnTo>
                  <a:pt x="19349" y="17989"/>
                </a:lnTo>
                <a:lnTo>
                  <a:pt x="19349" y="10800"/>
                </a:lnTo>
                <a:lnTo>
                  <a:pt x="8730" y="10800"/>
                </a:lnTo>
                <a:lnTo>
                  <a:pt x="8730" y="17989"/>
                </a:lnTo>
                <a:lnTo>
                  <a:pt x="13117"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Rectangle 8"/>
          <p:cNvSpPr/>
          <p:nvPr/>
        </p:nvSpPr>
        <p:spPr>
          <a:xfrm>
            <a:off x="2711520" y="44085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2" name="Picture 9" descr=""/>
          <p:cNvPicPr/>
          <p:nvPr/>
        </p:nvPicPr>
        <p:blipFill>
          <a:blip r:embed="rId2"/>
          <a:stretch/>
        </p:blipFill>
        <p:spPr>
          <a:xfrm>
            <a:off x="609480" y="4191120"/>
            <a:ext cx="3124440" cy="2124000"/>
          </a:xfrm>
          <a:prstGeom prst="rect">
            <a:avLst/>
          </a:prstGeom>
          <a:ln w="0">
            <a:noFill/>
          </a:ln>
        </p:spPr>
      </p:pic>
    </p:spTree>
  </p:cSld>
  <p:transition>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6"/>
                                        </p:tgtEl>
                                        <p:attrNameLst>
                                          <p:attrName>style.visibility</p:attrName>
                                        </p:attrNameLst>
                                      </p:cBhvr>
                                      <p:to>
                                        <p:strVal val="visible"/>
                                      </p:to>
                                    </p:set>
                                    <p:animEffect filter="circle(in)" transition="in">
                                      <p:cBhvr additive="repl">
                                        <p:cTn id="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Date Placeholder 2"/>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Footer Placeholder 3"/>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title"/>
          </p:nvPr>
        </p:nvSpPr>
        <p:spPr>
          <a:xfrm>
            <a:off x="304920" y="53316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roclamation of 1763</a:t>
            </a:r>
            <a:endParaRPr b="0" lang="en-US" sz="4400" spc="-1" strike="noStrike">
              <a:solidFill>
                <a:srgbClr val="000000"/>
              </a:solidFill>
              <a:latin typeface="Century Gothic"/>
            </a:endParaRPr>
          </a:p>
        </p:txBody>
      </p:sp>
      <p:sp>
        <p:nvSpPr>
          <p:cNvPr id="126" name="Rectangle 3"/>
          <p:cNvSpPr/>
          <p:nvPr/>
        </p:nvSpPr>
        <p:spPr>
          <a:xfrm>
            <a:off x="1469520" y="2173320"/>
            <a:ext cx="70707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lamation of 1763-The British degree prohibiting  coloni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lement west of the Appalachians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Rectangle 5"/>
          <p:cNvSpPr/>
          <p:nvPr/>
        </p:nvSpPr>
        <p:spPr>
          <a:xfrm>
            <a:off x="1289160" y="3714840"/>
            <a:ext cx="711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The cause for the Proclamation was to keep having wars 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st wanted peace so they just wrote the proclamation .</a:t>
            </a:r>
            <a:endParaRPr b="0" lang="en-US" sz="2000" spc="-1" strike="noStrike">
              <a:solidFill>
                <a:srgbClr val="000000"/>
              </a:solidFill>
              <a:latin typeface="Arial"/>
            </a:endParaRPr>
          </a:p>
        </p:txBody>
      </p:sp>
      <p:sp>
        <p:nvSpPr>
          <p:cNvPr id="128" name="Rectangle 6"/>
          <p:cNvSpPr/>
          <p:nvPr/>
        </p:nvSpPr>
        <p:spPr>
          <a:xfrm>
            <a:off x="1672560" y="5238720"/>
            <a:ext cx="7108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effect from the Procalmtion is that they were very upse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they didn’t want to vote, because owning land ment a lo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 colonist.</a:t>
            </a:r>
            <a:endParaRPr b="0" lang="en-US" sz="2000" spc="-1" strike="noStrike">
              <a:solidFill>
                <a:srgbClr val="000000"/>
              </a:solidFill>
              <a:latin typeface="Arial"/>
            </a:endParaRPr>
          </a:p>
        </p:txBody>
      </p:sp>
      <p:sp>
        <p:nvSpPr>
          <p:cNvPr id="129" name="AutoShape 7"/>
          <p:cNvSpPr/>
          <p:nvPr/>
        </p:nvSpPr>
        <p:spPr>
          <a:xfrm>
            <a:off x="7848720" y="380880"/>
            <a:ext cx="990360" cy="838440"/>
          </a:xfrm>
          <a:custGeom>
            <a:avLst/>
            <a:gdLst>
              <a:gd name="textAreaLeft" fmla="*/ 54360 w 990360"/>
              <a:gd name="textAreaRight" fmla="*/ 936000 w 990360"/>
              <a:gd name="textAreaTop" fmla="*/ 54360 h 838440"/>
              <a:gd name="textAreaBottom" fmla="*/ 784080 h 838440"/>
            </a:gdLst>
            <a:ahLst/>
            <a:rect l="textAreaLeft" t="textAreaTop" r="textAreaRight" b="textAreaBottom"/>
            <a:pathLst>
              <a:path w="25512" h="21600">
                <a:moveTo>
                  <a:pt x="0" y="0"/>
                </a:moveTo>
                <a:lnTo>
                  <a:pt x="25512" y="0"/>
                </a:lnTo>
                <a:lnTo>
                  <a:pt x="25512" y="21600"/>
                </a:lnTo>
                <a:lnTo>
                  <a:pt x="0" y="21600"/>
                </a:lnTo>
                <a:close/>
              </a:path>
              <a:path fill="lightenLess" w="25512" h="21600">
                <a:moveTo>
                  <a:pt x="0" y="0"/>
                </a:moveTo>
                <a:lnTo>
                  <a:pt x="25512" y="0"/>
                </a:lnTo>
                <a:lnTo>
                  <a:pt x="24112" y="1400"/>
                </a:lnTo>
                <a:lnTo>
                  <a:pt x="1400" y="1400"/>
                </a:lnTo>
                <a:close/>
              </a:path>
              <a:path fill="darken" w="25512" h="21600">
                <a:moveTo>
                  <a:pt x="25512" y="0"/>
                </a:moveTo>
                <a:lnTo>
                  <a:pt x="25512" y="21600"/>
                </a:lnTo>
                <a:lnTo>
                  <a:pt x="24112" y="20200"/>
                </a:lnTo>
                <a:lnTo>
                  <a:pt x="24112" y="1400"/>
                </a:lnTo>
                <a:close/>
              </a:path>
              <a:path fill="darkenLess" w="25512" h="21600">
                <a:moveTo>
                  <a:pt x="25512" y="21600"/>
                </a:moveTo>
                <a:lnTo>
                  <a:pt x="0" y="21600"/>
                </a:lnTo>
                <a:lnTo>
                  <a:pt x="1400" y="20200"/>
                </a:lnTo>
                <a:lnTo>
                  <a:pt x="24112" y="20200"/>
                </a:lnTo>
                <a:close/>
              </a:path>
              <a:path fill="lighten" w="25512" h="21600">
                <a:moveTo>
                  <a:pt x="0" y="21600"/>
                </a:moveTo>
                <a:lnTo>
                  <a:pt x="0" y="0"/>
                </a:lnTo>
                <a:lnTo>
                  <a:pt x="1400" y="1400"/>
                </a:lnTo>
                <a:lnTo>
                  <a:pt x="1400" y="20200"/>
                </a:lnTo>
                <a:close/>
              </a:path>
              <a:path fill="darken" w="25512" h="21600">
                <a:moveTo>
                  <a:pt x="12756" y="3837"/>
                </a:moveTo>
                <a:lnTo>
                  <a:pt x="15332" y="6448"/>
                </a:lnTo>
                <a:lnTo>
                  <a:pt x="15332" y="4707"/>
                </a:lnTo>
                <a:lnTo>
                  <a:pt x="17108" y="4707"/>
                </a:lnTo>
                <a:lnTo>
                  <a:pt x="17108" y="8224"/>
                </a:lnTo>
                <a:lnTo>
                  <a:pt x="19719" y="10800"/>
                </a:lnTo>
                <a:lnTo>
                  <a:pt x="18065" y="10800"/>
                </a:lnTo>
                <a:lnTo>
                  <a:pt x="18065" y="17989"/>
                </a:lnTo>
                <a:lnTo>
                  <a:pt x="7447" y="17989"/>
                </a:lnTo>
                <a:lnTo>
                  <a:pt x="7447" y="10800"/>
                </a:lnTo>
                <a:lnTo>
                  <a:pt x="5793" y="10800"/>
                </a:lnTo>
                <a:close/>
              </a:path>
              <a:path fill="darkenLess" w="25512" h="21600">
                <a:moveTo>
                  <a:pt x="15332" y="6448"/>
                </a:moveTo>
                <a:lnTo>
                  <a:pt x="15332" y="4707"/>
                </a:lnTo>
                <a:lnTo>
                  <a:pt x="17108" y="4707"/>
                </a:lnTo>
                <a:lnTo>
                  <a:pt x="17108" y="8224"/>
                </a:lnTo>
                <a:close/>
              </a:path>
              <a:path fill="darkenLess" w="25512" h="21600">
                <a:moveTo>
                  <a:pt x="11833" y="14299"/>
                </a:moveTo>
                <a:lnTo>
                  <a:pt x="13679" y="14299"/>
                </a:lnTo>
                <a:lnTo>
                  <a:pt x="13679" y="17989"/>
                </a:lnTo>
                <a:lnTo>
                  <a:pt x="18065" y="17989"/>
                </a:lnTo>
                <a:lnTo>
                  <a:pt x="18065" y="10800"/>
                </a:lnTo>
                <a:lnTo>
                  <a:pt x="7447" y="10800"/>
                </a:lnTo>
                <a:lnTo>
                  <a:pt x="7447" y="17989"/>
                </a:lnTo>
                <a:lnTo>
                  <a:pt x="11833"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mb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7" presetSubtype="4">
                                  <p:stCondLst>
                                    <p:cond delay="0"/>
                                  </p:stCondLst>
                                  <p:childTnLst>
                                    <p:set>
                                      <p:cBhvr>
                                        <p:cTn id="13" dur="1" fill="hold">
                                          <p:stCondLst>
                                            <p:cond delay="0"/>
                                          </p:stCondLst>
                                        </p:cTn>
                                        <p:tgtEl>
                                          <p:spTgt spid="125"/>
                                        </p:tgtEl>
                                        <p:attrNameLst>
                                          <p:attrName>style.visibility</p:attrName>
                                        </p:attrNameLst>
                                      </p:cBhvr>
                                      <p:to>
                                        <p:strVal val="visible"/>
                                      </p:to>
                                    </p:set>
                                    <p:anim calcmode="lin" valueType="num">
                                      <p:cBhvr additive="base">
                                        <p:cTn id="14" dur="5000" fill="hold"/>
                                        <p:tgtEl>
                                          <p:spTgt spid="125"/>
                                        </p:tgtEl>
                                        <p:attrNameLst>
                                          <p:attrName>ppt_x</p:attrName>
                                        </p:attrNameLst>
                                      </p:cBhvr>
                                      <p:tavLst>
                                        <p:tav tm="0">
                                          <p:val>
                                            <p:strVal val="#ppt_x"/>
                                          </p:val>
                                        </p:tav>
                                        <p:tav tm="100000">
                                          <p:val>
                                            <p:strVal val="#ppt_x"/>
                                          </p:val>
                                        </p:tav>
                                      </p:tavLst>
                                    </p:anim>
                                    <p:anim calcmode="lin" valueType="num">
                                      <p:cBhvr additive="base">
                                        <p:cTn id="15" dur="50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Date Placeholder 2"/>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Footer Placeholder 3"/>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tamp Act of 1765</a:t>
            </a:r>
            <a:endParaRPr b="0" lang="en-US" sz="4400" spc="-1" strike="noStrike">
              <a:solidFill>
                <a:srgbClr val="000000"/>
              </a:solidFill>
              <a:latin typeface="Century Gothic"/>
            </a:endParaRPr>
          </a:p>
        </p:txBody>
      </p:sp>
      <p:sp>
        <p:nvSpPr>
          <p:cNvPr id="133" name="Rectangle 3"/>
          <p:cNvSpPr/>
          <p:nvPr/>
        </p:nvSpPr>
        <p:spPr>
          <a:xfrm>
            <a:off x="1598040" y="1981080"/>
            <a:ext cx="685296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mp Act - The British decree taxing all legal pape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d in the colon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 of the Stamp Act is that it was the first ti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tish tried to tax paper, had to have a stamp in order ta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the Stamp act was that the colonist boycot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per goods.</a:t>
            </a:r>
            <a:endParaRPr b="0" lang="en-US" sz="2000" spc="-1" strike="noStrike">
              <a:solidFill>
                <a:srgbClr val="000000"/>
              </a:solidFill>
              <a:latin typeface="Arial"/>
            </a:endParaRPr>
          </a:p>
        </p:txBody>
      </p:sp>
      <p:sp>
        <p:nvSpPr>
          <p:cNvPr id="134" name="Rectangle 4"/>
          <p:cNvSpPr/>
          <p:nvPr/>
        </p:nvSpPr>
        <p:spPr>
          <a:xfrm>
            <a:off x="639720" y="31068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5" name="AutoShape 5"/>
          <p:cNvSpPr/>
          <p:nvPr/>
        </p:nvSpPr>
        <p:spPr>
          <a:xfrm>
            <a:off x="7238880" y="609480"/>
            <a:ext cx="1219320" cy="914400"/>
          </a:xfrm>
          <a:custGeom>
            <a:avLst/>
            <a:gdLst>
              <a:gd name="textAreaLeft" fmla="*/ 59040 w 1219320"/>
              <a:gd name="textAreaRight" fmla="*/ 1160280 w 1219320"/>
              <a:gd name="textAreaTop" fmla="*/ 59040 h 914400"/>
              <a:gd name="textAreaBottom" fmla="*/ 855360 h 9144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mb dir="vert"/>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Date Placeholder 2"/>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Footer Placeholder 3"/>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ownshed Acts of 1765</a:t>
            </a:r>
            <a:endParaRPr b="0" lang="en-US" sz="4400" spc="-1" strike="noStrike">
              <a:solidFill>
                <a:srgbClr val="000000"/>
              </a:solidFill>
              <a:latin typeface="Century Gothic"/>
            </a:endParaRPr>
          </a:p>
        </p:txBody>
      </p:sp>
      <p:sp>
        <p:nvSpPr>
          <p:cNvPr id="139" name="Rectangle 3"/>
          <p:cNvSpPr/>
          <p:nvPr/>
        </p:nvSpPr>
        <p:spPr>
          <a:xfrm>
            <a:off x="451440" y="2209680"/>
            <a:ext cx="804600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Town shed Acts – taxes on glass , paint, oil, lead, paper, an t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 of the townshed act was that they tricked them into pay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es so they could pay British offic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result of the Townshed Act was that they boycotted all goo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English.</a:t>
            </a:r>
            <a:endParaRPr b="0" lang="en-US" sz="2000" spc="-1" strike="noStrike">
              <a:solidFill>
                <a:srgbClr val="000000"/>
              </a:solidFill>
              <a:latin typeface="Arial"/>
            </a:endParaRPr>
          </a:p>
        </p:txBody>
      </p:sp>
      <p:sp>
        <p:nvSpPr>
          <p:cNvPr id="140" name="AutoShape 4"/>
          <p:cNvSpPr/>
          <p:nvPr/>
        </p:nvSpPr>
        <p:spPr>
          <a:xfrm>
            <a:off x="7924680" y="914400"/>
            <a:ext cx="838440" cy="914400"/>
          </a:xfrm>
          <a:custGeom>
            <a:avLst/>
            <a:gdLst>
              <a:gd name="textAreaLeft" fmla="*/ 54360 w 838440"/>
              <a:gd name="textAreaRight" fmla="*/ 784080 w 838440"/>
              <a:gd name="textAreaTop" fmla="*/ 54360 h 914400"/>
              <a:gd name="textAreaBottom" fmla="*/ 860040 h 914400"/>
            </a:gdLst>
            <a:ahLst/>
            <a:rect l="textAreaLeft" t="textAreaTop" r="textAreaRight" b="textAreaBottom"/>
            <a:pathLst>
              <a:path w="21600" h="23556">
                <a:moveTo>
                  <a:pt x="0" y="0"/>
                </a:moveTo>
                <a:lnTo>
                  <a:pt x="21600" y="0"/>
                </a:lnTo>
                <a:lnTo>
                  <a:pt x="21600" y="23556"/>
                </a:lnTo>
                <a:lnTo>
                  <a:pt x="0" y="23556"/>
                </a:lnTo>
                <a:close/>
              </a:path>
              <a:path fill="lightenLess" w="21600" h="23556">
                <a:moveTo>
                  <a:pt x="0" y="0"/>
                </a:moveTo>
                <a:lnTo>
                  <a:pt x="21600" y="0"/>
                </a:lnTo>
                <a:lnTo>
                  <a:pt x="20200" y="1400"/>
                </a:lnTo>
                <a:lnTo>
                  <a:pt x="1400" y="1400"/>
                </a:lnTo>
                <a:close/>
              </a:path>
              <a:path fill="darken" w="21600" h="23556">
                <a:moveTo>
                  <a:pt x="21600" y="0"/>
                </a:moveTo>
                <a:lnTo>
                  <a:pt x="21600" y="23556"/>
                </a:lnTo>
                <a:lnTo>
                  <a:pt x="20200" y="22156"/>
                </a:lnTo>
                <a:lnTo>
                  <a:pt x="20200" y="1400"/>
                </a:lnTo>
                <a:close/>
              </a:path>
              <a:path fill="darkenLess" w="21600" h="23556">
                <a:moveTo>
                  <a:pt x="21600" y="23556"/>
                </a:moveTo>
                <a:lnTo>
                  <a:pt x="0" y="23556"/>
                </a:lnTo>
                <a:lnTo>
                  <a:pt x="1400" y="22156"/>
                </a:lnTo>
                <a:lnTo>
                  <a:pt x="20200" y="22156"/>
                </a:lnTo>
                <a:close/>
              </a:path>
              <a:path fill="lighten" w="21600" h="23556">
                <a:moveTo>
                  <a:pt x="0" y="23556"/>
                </a:moveTo>
                <a:lnTo>
                  <a:pt x="0" y="0"/>
                </a:lnTo>
                <a:lnTo>
                  <a:pt x="1400" y="1400"/>
                </a:lnTo>
                <a:lnTo>
                  <a:pt x="1400" y="22156"/>
                </a:lnTo>
                <a:close/>
              </a:path>
              <a:path fill="darken" w="21600" h="23556">
                <a:moveTo>
                  <a:pt x="10800" y="4815"/>
                </a:moveTo>
                <a:lnTo>
                  <a:pt x="13376" y="7426"/>
                </a:lnTo>
                <a:lnTo>
                  <a:pt x="13376" y="5685"/>
                </a:lnTo>
                <a:lnTo>
                  <a:pt x="15152" y="5685"/>
                </a:lnTo>
                <a:lnTo>
                  <a:pt x="15152" y="9202"/>
                </a:lnTo>
                <a:lnTo>
                  <a:pt x="17763" y="11778"/>
                </a:lnTo>
                <a:lnTo>
                  <a:pt x="16109" y="11778"/>
                </a:lnTo>
                <a:lnTo>
                  <a:pt x="16109" y="18967"/>
                </a:lnTo>
                <a:lnTo>
                  <a:pt x="5491" y="18967"/>
                </a:lnTo>
                <a:lnTo>
                  <a:pt x="5491" y="11778"/>
                </a:lnTo>
                <a:lnTo>
                  <a:pt x="3837" y="11778"/>
                </a:lnTo>
                <a:close/>
              </a:path>
              <a:path fill="darkenLess" w="21600" h="23556">
                <a:moveTo>
                  <a:pt x="13376" y="7426"/>
                </a:moveTo>
                <a:lnTo>
                  <a:pt x="13376" y="5685"/>
                </a:lnTo>
                <a:lnTo>
                  <a:pt x="15152" y="5685"/>
                </a:lnTo>
                <a:lnTo>
                  <a:pt x="15152" y="9202"/>
                </a:lnTo>
                <a:close/>
              </a:path>
              <a:path fill="darkenLess" w="21600" h="23556">
                <a:moveTo>
                  <a:pt x="9877" y="15277"/>
                </a:moveTo>
                <a:lnTo>
                  <a:pt x="11723" y="15277"/>
                </a:lnTo>
                <a:lnTo>
                  <a:pt x="11723" y="18967"/>
                </a:lnTo>
                <a:lnTo>
                  <a:pt x="16109" y="18967"/>
                </a:lnTo>
                <a:lnTo>
                  <a:pt x="16109" y="11778"/>
                </a:lnTo>
                <a:lnTo>
                  <a:pt x="5491" y="11778"/>
                </a:lnTo>
                <a:lnTo>
                  <a:pt x="5491" y="18967"/>
                </a:lnTo>
                <a:lnTo>
                  <a:pt x="9877" y="18967"/>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mb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3" presetSubtype="16">
                                  <p:stCondLst>
                                    <p:cond delay="0"/>
                                  </p:stCondLst>
                                  <p:childTnLst>
                                    <p:set>
                                      <p:cBhvr>
                                        <p:cTn id="28" dur="1" fill="hold">
                                          <p:stCondLst>
                                            <p:cond delay="0"/>
                                          </p:stCondLst>
                                        </p:cTn>
                                        <p:tgtEl>
                                          <p:spTgt spid="138"/>
                                        </p:tgtEl>
                                        <p:attrNameLst>
                                          <p:attrName>style.visibility</p:attrName>
                                        </p:attrNameLst>
                                      </p:cBhvr>
                                      <p:to>
                                        <p:strVal val="visible"/>
                                      </p:to>
                                    </p:set>
                                    <p:animEffect filter="plus(in)" transition="in">
                                      <p:cBhvr additive="repl">
                                        <p:cTn id="29"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Date Placeholder 3"/>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Footer Placeholder 4"/>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Boston Massacre</a:t>
            </a:r>
            <a:endParaRPr b="0" lang="en-US" sz="4400" spc="-1" strike="noStrike">
              <a:solidFill>
                <a:srgbClr val="000000"/>
              </a:solidFill>
              <a:latin typeface="Century Gothic"/>
            </a:endParaRPr>
          </a:p>
        </p:txBody>
      </p:sp>
      <p:sp>
        <p:nvSpPr>
          <p:cNvPr id="144" name="PlaceHolder 2"/>
          <p:cNvSpPr>
            <a:spLocks noGrp="1"/>
          </p:cNvSpPr>
          <p:nvPr>
            <p:ph/>
          </p:nvPr>
        </p:nvSpPr>
        <p:spPr>
          <a:xfrm>
            <a:off x="2285640" y="1676160"/>
            <a:ext cx="6172200" cy="4267080"/>
          </a:xfrm>
          <a:prstGeom prst="rect">
            <a:avLst/>
          </a:prstGeom>
          <a:noFill/>
          <a:ln w="0">
            <a:noFill/>
          </a:ln>
          <a:effectLst>
            <a:outerShdw dist="25455" dir="2700000" blurRad="0" rotWithShape="0">
              <a:srgbClr val="ffffff"/>
            </a:outerShdw>
          </a:effectLst>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 </a:t>
            </a:r>
            <a:r>
              <a:rPr b="0" lang="en-US" sz="2400" spc="-1" strike="noStrike">
                <a:solidFill>
                  <a:srgbClr val="000000"/>
                </a:solidFill>
                <a:latin typeface="Century Gothic"/>
              </a:rPr>
              <a:t>Boston Massacre-incident against the British troops, they were firing into a mob. </a:t>
            </a:r>
            <a:endParaRPr b="0" lang="en-US" sz="2400" spc="-1" strike="noStrike">
              <a:solidFill>
                <a:srgbClr val="000000"/>
              </a:solidFill>
              <a:latin typeface="Century Gothic"/>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cause of the Boston Massacre was that the crowd was throwing snowballs at them an they were getting very upset. </a:t>
            </a:r>
            <a:endParaRPr b="0" lang="en-US" sz="2400" spc="-1" strike="noStrike">
              <a:solidFill>
                <a:srgbClr val="000000"/>
              </a:solidFill>
              <a:latin typeface="Century Gothic"/>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effect of the a Boston was that it showed the dangers of having British troops in the colonial towns, </a:t>
            </a:r>
            <a:endParaRPr b="0" lang="en-US" sz="2400" spc="-1" strike="noStrike">
              <a:solidFill>
                <a:srgbClr val="000000"/>
              </a:solidFill>
              <a:latin typeface="Century Gothic"/>
            </a:endParaRPr>
          </a:p>
        </p:txBody>
      </p:sp>
      <p:sp>
        <p:nvSpPr>
          <p:cNvPr id="145" name="AutoShape 4"/>
          <p:cNvSpPr/>
          <p:nvPr/>
        </p:nvSpPr>
        <p:spPr>
          <a:xfrm>
            <a:off x="609480" y="533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6" name="Picture 7" descr=""/>
          <p:cNvPicPr/>
          <p:nvPr/>
        </p:nvPicPr>
        <p:blipFill>
          <a:blip r:embed="rId2"/>
          <a:stretch/>
        </p:blipFill>
        <p:spPr>
          <a:xfrm>
            <a:off x="228600" y="2895480"/>
            <a:ext cx="2124000" cy="2971800"/>
          </a:xfrm>
          <a:prstGeom prst="rect">
            <a:avLst/>
          </a:prstGeom>
          <a:ln w="0">
            <a:noFill/>
          </a:ln>
        </p:spPr>
      </p:pic>
    </p:spTree>
  </p:cSld>
  <p:transition>
    <p:comb dir="ver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143"/>
                                        </p:tgtEl>
                                        <p:attrNameLst>
                                          <p:attrName>style.visibility</p:attrName>
                                        </p:attrNameLst>
                                      </p:cBhvr>
                                      <p:to>
                                        <p:strVal val="visible"/>
                                      </p:to>
                                    </p:set>
                                    <p:animEffect filter="randombar(horizontal)" transition="in">
                                      <p:cBhvr additive="repl">
                                        <p:cTn id="3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Date Placeholder 3"/>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Footer Placeholder 4"/>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ea Act of 1773</a:t>
            </a:r>
            <a:endParaRPr b="0" lang="en-US" sz="4400" spc="-1" strike="noStrike">
              <a:solidFill>
                <a:srgbClr val="000000"/>
              </a:solidFill>
              <a:latin typeface="Century Gothic"/>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2000" spc="-1" strike="noStrike">
                <a:solidFill>
                  <a:srgbClr val="000000"/>
                </a:solidFill>
                <a:latin typeface="Century Gothic"/>
              </a:rPr>
              <a:t>Tea Act - This act helped the British east India company by giving it control over the American tea trade </a:t>
            </a:r>
            <a:endParaRPr b="0" lang="en-US" sz="2000" spc="-1" strike="noStrike">
              <a:solidFill>
                <a:srgbClr val="000000"/>
              </a:solidFill>
              <a:latin typeface="Century Gothic"/>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ause of the communications among leaders in Massachutes towns. </a:t>
            </a:r>
            <a:endParaRPr b="0" lang="en-US" sz="2000" spc="-1" strike="noStrike">
              <a:solidFill>
                <a:srgbClr val="000000"/>
              </a:solidFill>
              <a:latin typeface="Century Gothic"/>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result of the tea act was that the colonist were angry because they still have to pay tax on the shippers an merchants were upset about new law because they still had to pay tax on there tea.</a:t>
            </a:r>
            <a:endParaRPr b="0" lang="en-US" sz="2000" spc="-1" strike="noStrike">
              <a:solidFill>
                <a:srgbClr val="000000"/>
              </a:solidFill>
              <a:latin typeface="Century Gothic"/>
            </a:endParaRPr>
          </a:p>
        </p:txBody>
      </p:sp>
      <p:sp>
        <p:nvSpPr>
          <p:cNvPr id="151" name="AutoShape 4"/>
          <p:cNvSpPr/>
          <p:nvPr/>
        </p:nvSpPr>
        <p:spPr>
          <a:xfrm>
            <a:off x="7086600" y="609480"/>
            <a:ext cx="990720" cy="838440"/>
          </a:xfrm>
          <a:custGeom>
            <a:avLst/>
            <a:gdLst>
              <a:gd name="textAreaLeft" fmla="*/ 54360 w 990720"/>
              <a:gd name="textAreaRight" fmla="*/ 936360 w 990720"/>
              <a:gd name="textAreaTop" fmla="*/ 54360 h 838440"/>
              <a:gd name="textAreaBottom" fmla="*/ 784080 h 838440"/>
            </a:gdLst>
            <a:ahLst/>
            <a:rect l="textAreaLeft" t="textAreaTop" r="textAreaRight" b="textAreaBottom"/>
            <a:pathLst>
              <a:path w="25521" h="21600">
                <a:moveTo>
                  <a:pt x="0" y="0"/>
                </a:moveTo>
                <a:lnTo>
                  <a:pt x="25521" y="0"/>
                </a:lnTo>
                <a:lnTo>
                  <a:pt x="25521" y="21600"/>
                </a:lnTo>
                <a:lnTo>
                  <a:pt x="0" y="21600"/>
                </a:lnTo>
                <a:close/>
              </a:path>
              <a:path fill="lightenLess" w="25521" h="21600">
                <a:moveTo>
                  <a:pt x="0" y="0"/>
                </a:moveTo>
                <a:lnTo>
                  <a:pt x="25521" y="0"/>
                </a:lnTo>
                <a:lnTo>
                  <a:pt x="24121" y="1400"/>
                </a:lnTo>
                <a:lnTo>
                  <a:pt x="1400" y="1400"/>
                </a:lnTo>
                <a:close/>
              </a:path>
              <a:path fill="darken" w="25521" h="21600">
                <a:moveTo>
                  <a:pt x="25521" y="0"/>
                </a:moveTo>
                <a:lnTo>
                  <a:pt x="25521" y="21600"/>
                </a:lnTo>
                <a:lnTo>
                  <a:pt x="24121" y="20200"/>
                </a:lnTo>
                <a:lnTo>
                  <a:pt x="24121" y="1400"/>
                </a:lnTo>
                <a:close/>
              </a:path>
              <a:path fill="darkenLess" w="25521" h="21600">
                <a:moveTo>
                  <a:pt x="25521" y="21600"/>
                </a:moveTo>
                <a:lnTo>
                  <a:pt x="0" y="21600"/>
                </a:lnTo>
                <a:lnTo>
                  <a:pt x="1400" y="20200"/>
                </a:lnTo>
                <a:lnTo>
                  <a:pt x="24121" y="20200"/>
                </a:lnTo>
                <a:close/>
              </a:path>
              <a:path fill="lighten" w="25521" h="21600">
                <a:moveTo>
                  <a:pt x="0" y="21600"/>
                </a:moveTo>
                <a:lnTo>
                  <a:pt x="0" y="0"/>
                </a:lnTo>
                <a:lnTo>
                  <a:pt x="1400" y="1400"/>
                </a:lnTo>
                <a:lnTo>
                  <a:pt x="1400" y="20200"/>
                </a:lnTo>
                <a:close/>
              </a:path>
              <a:path fill="darken" w="25521" h="21600">
                <a:moveTo>
                  <a:pt x="12761" y="3837"/>
                </a:moveTo>
                <a:lnTo>
                  <a:pt x="15337" y="6448"/>
                </a:lnTo>
                <a:lnTo>
                  <a:pt x="15337" y="4707"/>
                </a:lnTo>
                <a:lnTo>
                  <a:pt x="17113" y="4707"/>
                </a:lnTo>
                <a:lnTo>
                  <a:pt x="17113" y="8224"/>
                </a:lnTo>
                <a:lnTo>
                  <a:pt x="19724" y="10800"/>
                </a:lnTo>
                <a:lnTo>
                  <a:pt x="18070" y="10800"/>
                </a:lnTo>
                <a:lnTo>
                  <a:pt x="18070" y="17989"/>
                </a:lnTo>
                <a:lnTo>
                  <a:pt x="7451" y="17989"/>
                </a:lnTo>
                <a:lnTo>
                  <a:pt x="7451" y="10800"/>
                </a:lnTo>
                <a:lnTo>
                  <a:pt x="5798" y="10800"/>
                </a:lnTo>
                <a:close/>
              </a:path>
              <a:path fill="darkenLess" w="25521" h="21600">
                <a:moveTo>
                  <a:pt x="15337" y="6448"/>
                </a:moveTo>
                <a:lnTo>
                  <a:pt x="15337" y="4707"/>
                </a:lnTo>
                <a:lnTo>
                  <a:pt x="17113" y="4707"/>
                </a:lnTo>
                <a:lnTo>
                  <a:pt x="17113" y="8224"/>
                </a:lnTo>
                <a:close/>
              </a:path>
              <a:path fill="darkenLess" w="25521" h="21600">
                <a:moveTo>
                  <a:pt x="11838" y="14299"/>
                </a:moveTo>
                <a:lnTo>
                  <a:pt x="13683" y="14299"/>
                </a:lnTo>
                <a:lnTo>
                  <a:pt x="13683" y="17989"/>
                </a:lnTo>
                <a:lnTo>
                  <a:pt x="18070" y="17989"/>
                </a:lnTo>
                <a:lnTo>
                  <a:pt x="18070" y="10800"/>
                </a:lnTo>
                <a:lnTo>
                  <a:pt x="7451" y="10800"/>
                </a:lnTo>
                <a:lnTo>
                  <a:pt x="7451" y="17989"/>
                </a:lnTo>
                <a:lnTo>
                  <a:pt x="11838"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Footer Placeholder 4"/>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title"/>
          </p:nvPr>
        </p:nvSpPr>
        <p:spPr>
          <a:xfrm>
            <a:off x="457200" y="3805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Boston Tea Party </a:t>
            </a:r>
            <a:endParaRPr b="0" lang="en-US" sz="4400" spc="-1" strike="noStrike">
              <a:solidFill>
                <a:srgbClr val="000000"/>
              </a:solidFill>
              <a:latin typeface="Century Gothic"/>
            </a:endParaRPr>
          </a:p>
        </p:txBody>
      </p:sp>
      <p:sp>
        <p:nvSpPr>
          <p:cNvPr id="155" name="PlaceHolder 2"/>
          <p:cNvSpPr>
            <a:spLocks noGrp="1"/>
          </p:cNvSpPr>
          <p:nvPr>
            <p:ph/>
          </p:nvPr>
        </p:nvSpPr>
        <p:spPr>
          <a:xfrm>
            <a:off x="2133360" y="1905120"/>
            <a:ext cx="6629400" cy="3357360"/>
          </a:xfrm>
          <a:prstGeom prst="rect">
            <a:avLst/>
          </a:prstGeom>
          <a:noFill/>
          <a:ln w="0">
            <a:noFill/>
          </a:ln>
          <a:effectLst>
            <a:outerShdw dist="25455" dir="2700000" blurRad="0" rotWithShape="0">
              <a:srgbClr val="ffffff"/>
            </a:outerShdw>
          </a:effectLst>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2000" spc="-1" strike="noStrike">
                <a:solidFill>
                  <a:srgbClr val="000000"/>
                </a:solidFill>
                <a:latin typeface="Century Gothic"/>
              </a:rPr>
              <a:t>The Boston Tea Party -  a protest against British in which patriots </a:t>
            </a:r>
            <a:endParaRPr b="0" lang="en-US" sz="2000" spc="-1" strike="noStrike">
              <a:solidFill>
                <a:srgbClr val="000000"/>
              </a:solidFill>
              <a:latin typeface="Century Gothic"/>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f the east Indian company threw the tea into the Boston Harbor.</a:t>
            </a:r>
            <a:endParaRPr b="0" lang="en-US" sz="2000" spc="-1" strike="noStrike">
              <a:solidFill>
                <a:srgbClr val="000000"/>
              </a:solidFill>
              <a:latin typeface="Century Gothic"/>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ause of the Boston Tea Party was that the colonist were very upset an rioted, </a:t>
            </a:r>
            <a:endParaRPr b="0" lang="en-US" sz="2000" spc="-1" strike="noStrike">
              <a:solidFill>
                <a:srgbClr val="000000"/>
              </a:solidFill>
              <a:latin typeface="Century Gothic"/>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result in the   Boston Tea Party was that the colonist broke an threw all  the tea out over into the river.</a:t>
            </a:r>
            <a:endParaRPr b="0" lang="en-US" sz="2000" spc="-1" strike="noStrike">
              <a:solidFill>
                <a:srgbClr val="000000"/>
              </a:solidFill>
              <a:latin typeface="Century Gothic"/>
            </a:endParaRPr>
          </a:p>
        </p:txBody>
      </p:sp>
      <p:sp>
        <p:nvSpPr>
          <p:cNvPr id="156" name="AutoShape 4"/>
          <p:cNvSpPr/>
          <p:nvPr/>
        </p:nvSpPr>
        <p:spPr>
          <a:xfrm>
            <a:off x="7162920" y="609480"/>
            <a:ext cx="1143000" cy="914400"/>
          </a:xfrm>
          <a:custGeom>
            <a:avLst/>
            <a:gdLst>
              <a:gd name="textAreaLeft" fmla="*/ 59040 w 1143000"/>
              <a:gd name="textAreaRight" fmla="*/ 1083960 w 1143000"/>
              <a:gd name="textAreaTop" fmla="*/ 59040 h 914400"/>
              <a:gd name="textAreaBottom" fmla="*/ 855360 h 914400"/>
            </a:gdLst>
            <a:ahLst/>
            <a:rect l="textAreaLeft" t="textAreaTop" r="textAreaRight" b="textAreaBottom"/>
            <a:pathLst>
              <a:path w="26998" h="21600">
                <a:moveTo>
                  <a:pt x="0" y="0"/>
                </a:moveTo>
                <a:lnTo>
                  <a:pt x="26998" y="0"/>
                </a:lnTo>
                <a:lnTo>
                  <a:pt x="26998" y="21600"/>
                </a:lnTo>
                <a:lnTo>
                  <a:pt x="0" y="21600"/>
                </a:lnTo>
                <a:close/>
              </a:path>
              <a:path fill="lightenLess" w="26998" h="21600">
                <a:moveTo>
                  <a:pt x="0" y="0"/>
                </a:moveTo>
                <a:lnTo>
                  <a:pt x="26998" y="0"/>
                </a:lnTo>
                <a:lnTo>
                  <a:pt x="25598" y="1400"/>
                </a:lnTo>
                <a:lnTo>
                  <a:pt x="1400" y="1400"/>
                </a:lnTo>
                <a:close/>
              </a:path>
              <a:path fill="darken" w="26998" h="21600">
                <a:moveTo>
                  <a:pt x="26998" y="0"/>
                </a:moveTo>
                <a:lnTo>
                  <a:pt x="26998" y="21600"/>
                </a:lnTo>
                <a:lnTo>
                  <a:pt x="25598" y="20200"/>
                </a:lnTo>
                <a:lnTo>
                  <a:pt x="25598" y="1400"/>
                </a:lnTo>
                <a:close/>
              </a:path>
              <a:path fill="darkenLess" w="26998" h="21600">
                <a:moveTo>
                  <a:pt x="26998" y="21600"/>
                </a:moveTo>
                <a:lnTo>
                  <a:pt x="0" y="21600"/>
                </a:lnTo>
                <a:lnTo>
                  <a:pt x="1400" y="20200"/>
                </a:lnTo>
                <a:lnTo>
                  <a:pt x="25598" y="20200"/>
                </a:lnTo>
                <a:close/>
              </a:path>
              <a:path fill="lighten" w="26998" h="21600">
                <a:moveTo>
                  <a:pt x="0" y="21600"/>
                </a:moveTo>
                <a:lnTo>
                  <a:pt x="0" y="0"/>
                </a:lnTo>
                <a:lnTo>
                  <a:pt x="1400" y="1400"/>
                </a:lnTo>
                <a:lnTo>
                  <a:pt x="1400" y="20200"/>
                </a:lnTo>
                <a:close/>
              </a:path>
              <a:path fill="darken" w="26998" h="21600">
                <a:moveTo>
                  <a:pt x="13499" y="3837"/>
                </a:moveTo>
                <a:lnTo>
                  <a:pt x="16075" y="6448"/>
                </a:lnTo>
                <a:lnTo>
                  <a:pt x="16075" y="4707"/>
                </a:lnTo>
                <a:lnTo>
                  <a:pt x="17851" y="4707"/>
                </a:lnTo>
                <a:lnTo>
                  <a:pt x="17851" y="8224"/>
                </a:lnTo>
                <a:lnTo>
                  <a:pt x="20462" y="10800"/>
                </a:lnTo>
                <a:lnTo>
                  <a:pt x="18808" y="10800"/>
                </a:lnTo>
                <a:lnTo>
                  <a:pt x="18808" y="17989"/>
                </a:lnTo>
                <a:lnTo>
                  <a:pt x="8190" y="17989"/>
                </a:lnTo>
                <a:lnTo>
                  <a:pt x="8190" y="10800"/>
                </a:lnTo>
                <a:lnTo>
                  <a:pt x="6536" y="10800"/>
                </a:lnTo>
                <a:close/>
              </a:path>
              <a:path fill="darkenLess" w="26998" h="21600">
                <a:moveTo>
                  <a:pt x="16075" y="6448"/>
                </a:moveTo>
                <a:lnTo>
                  <a:pt x="16075" y="4707"/>
                </a:lnTo>
                <a:lnTo>
                  <a:pt x="17851" y="4707"/>
                </a:lnTo>
                <a:lnTo>
                  <a:pt x="17851" y="8224"/>
                </a:lnTo>
                <a:close/>
              </a:path>
              <a:path fill="darkenLess" w="26998" h="21600">
                <a:moveTo>
                  <a:pt x="12576" y="14299"/>
                </a:moveTo>
                <a:lnTo>
                  <a:pt x="14422" y="14299"/>
                </a:lnTo>
                <a:lnTo>
                  <a:pt x="14422" y="17989"/>
                </a:lnTo>
                <a:lnTo>
                  <a:pt x="18808" y="17989"/>
                </a:lnTo>
                <a:lnTo>
                  <a:pt x="18808" y="10800"/>
                </a:lnTo>
                <a:lnTo>
                  <a:pt x="8190" y="10800"/>
                </a:lnTo>
                <a:lnTo>
                  <a:pt x="8190" y="17989"/>
                </a:lnTo>
                <a:lnTo>
                  <a:pt x="12576"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3:31:37Z</dcterms:created>
  <dc:creator>Jeremey Stober</dc:creator>
  <dc:description/>
  <dc:language>en-US</dc:language>
  <cp:lastModifiedBy>NYCDOE Schools</cp:lastModifiedBy>
  <dcterms:modified xsi:type="dcterms:W3CDTF">2010-10-21T18:13:54Z</dcterms:modified>
  <cp:revision>43</cp:revision>
  <dc:subject/>
  <dc:title>PowerPoint Presentation</dc:title>
</cp:coreProperties>
</file>